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76BD-B56C-4BA7-8D64-7B6A124AF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D02C-C98E-45A1-80B0-C541A7465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D6F1-A068-47A9-8074-52E79E306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2179-FC41-4D0A-A954-ACE9A76F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432C-1647-4242-9284-81706AC1F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9239-5FD0-4284-A549-DD7ED61EF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8A39-D7FA-4880-B77A-52CFD64F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D931-1F6E-4B01-A71B-6E4AE6B6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EFAA-12C1-4F13-93A5-1E546D73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EC21-92C1-4833-B9F3-BC6EA25D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8AF3-4293-4929-BFE9-BDDA3173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5F6E-523A-42CC-A133-830AB889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145A-4874-4E60-BC96-7DB20CD0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DAD8-F38A-434A-9A88-648646EC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831A-9B40-44B9-B534-24461AA2B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mra Gu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¿ Dónde está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3434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11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 . Mi llamas Semra. Y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Vives Queens. Yo tengo quince años. Yo soy amable y energica.  Yo tengo dos hermanas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28520" y="4565520"/>
            <a:ext cx="657360" cy="951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17560" y="4565520"/>
            <a:ext cx="554040" cy="798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28520" y="5559480"/>
            <a:ext cx="554040" cy="792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27040" y="4565520"/>
            <a:ext cx="451080" cy="646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09960" y="3273480"/>
            <a:ext cx="577800" cy="834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819520" y="380988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area ¿y tú?                                                              3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12408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ien.                                                                            Alis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¿Qué haces?                      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36880" y="4492800"/>
            <a:ext cx="650880" cy="944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819520" y="2438280"/>
            <a:ext cx="3886200" cy="6098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 .                                                                            Michel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Como esta.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819520" y="449568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36880" y="5175360"/>
            <a:ext cx="474480" cy="950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819520" y="5181480"/>
            <a:ext cx="396216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424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819520" y="5943600"/>
            <a:ext cx="396216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14:35:13Z</dcterms:created>
  <dc:creator>FriscoISD</dc:creator>
  <dc:description/>
  <dc:language>en-US</dc:language>
  <cp:lastModifiedBy>NYCDOE</cp:lastModifiedBy>
  <dcterms:modified xsi:type="dcterms:W3CDTF">2012-12-06T15:01:59Z</dcterms:modified>
  <cp:revision>105</cp:revision>
  <dc:subject/>
  <dc:title>Profile</dc:title>
</cp:coreProperties>
</file>